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F1E-8900-4667-A8EB-5A74D3FF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245-6DAD-46A8-9409-F96164B5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A91-F082-4083-BC24-8F806824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0B4-3C1F-4360-AC1D-A610A929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01FB-0CB3-4054-992A-8144EBE9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EC8C-623A-4A55-AABC-93C9F35A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5C7-D37B-4300-B9AD-B8323835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82F4-0B76-4037-B24C-8747E031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F7BC-41A0-4E08-BC7F-B8F0D54D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72CA-3C44-499C-A7B3-62FE169D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53A9-2976-4E76-808A-CBBE0C0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B3A-4E20-42FB-AC1D-565C3849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3DE3-C0A9-4EFA-8120-FD2D9B24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ED03-7FD3-42FF-9891-0A2AB0A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A961-DDE1-4581-A137-B6445554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C609-0AF0-4948-A9AF-38923FCE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F9EE-DABD-4737-8C5D-F8B76A6E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E8F-2DB2-45B0-BFD4-CE98A2C0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7D1-D229-4DD4-B57C-BFFEACDD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DA8-435C-4575-93B8-C61C198F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837-8B3D-4E6E-9FF8-A36D9196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81D-5456-48EE-979B-4D7C91FB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768-6979-4875-BB9E-63BC974E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213-187A-40B1-A376-26E1E9A8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2D63-29C2-4481-ADBC-43174C4400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8FBF-5D5B-44D0-A497-8FEB662B14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ГУ "ЦЕНТР СПОРТИВНОЙ ПОДГОТОВКИ СБОРНЫХ КОМАНД РОССИИ"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УНИТАРНОЕ ПРЕДПРИЯТ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ЮЖНЫЙ ЦЕНТР СПОРТИВНОЙ ПОДГОТОВКИ»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эстафетному б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6-18.09.2011 г.                           г. Сочи ст. «ФГУП ЮГСПОРТ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эстафетному бегу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ВНАЯ СУДЕЙСКАЯ КОЛЛЕГИЯ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1989000"/>
          <a:ext cx="7777440" cy="3740400"/>
        </p:xfrm>
        <a:graphic>
          <a:graphicData uri="http://schemas.openxmlformats.org/drawingml/2006/table">
            <a:tbl>
              <a:tblPr/>
              <a:tblGrid>
                <a:gridCol w="2725920"/>
                <a:gridCol w="2652840"/>
                <a:gridCol w="450720"/>
                <a:gridCol w="1947960"/>
              </a:tblGrid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Лотор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. Целебриц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оловь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-Петер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менедж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гиазаря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менедж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йнетди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оцед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вж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1-09-17T13:25:22Z</cp:lastPrinted>
  <dcterms:modified xsi:type="dcterms:W3CDTF">2011-09-17T13:28:16Z</dcterms:modified>
  <cp:revision>17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